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5.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DCF31-22D8-4955-A906-D235569D3D7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B73D0-99F9-490E-8D37-2B58502304BE}"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0B6AB-3A27-41F7-AB00-0593101C2452}"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B6BEB-13DD-455E-B1A8-843779A42E4E}"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95C6E-89A7-4B96-B34F-E461C2151DA0}"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FA3B-6008-4FFC-88DE-51D290B699F0}"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gital divide is a problem that is very difficult to overcome, because there are so many challenges facing it. First of all, there is a difference between having the technology and knowing how to use it. Even if computers with internet access magically appeared in everyone’s arms across the world, many would not know what to do with the computers. Getting technology to people is a problem, but teaching them to use the technology is another, perhaps bigger problem. Learning a new skill is difficult for anyone, whether it be technology related or not. However, because so many people across the world are illiterate, teaching them to use a computer is even more difficult, because they cannot benefit much from technology without being able to rea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problem is getting people who are well-acquainted with technology to help those at the bottom of the digital divide. Most agree that something should be done to bridge the gap, but nobody wants to be the one to donate funds or to go personally teach all those in need. Especially in the current economic state of the world, countries do not want to spend their resources helping to close the digital divide; it is an expensive and daunting task. Who will be the one to pay for all the technology to be mass-distributed? Also, how will they get all the resources to each individual in need, and how will they teach them how to use i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if the resources and means to distribute them were available, many countries do not want the digital divide to be closed. Some countries, like China, purposely censor the information that its citizens can find on the internet. It is difficult to provide complete use of technology to a nation that does not want it. Also, some cultures feel that they can function perfectly fine without technology, and they are offended by the idea of it. If they do not want technology, then should we intervene? Is it necessary to close the digital divide and give technology to those who do not want it?</a:t>
            </a: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AB52E-A9EF-4AD6-B8E9-187CD8A183B4}"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0570D-1AA9-4773-9859-1DC347F460CB}"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671F7-B1F0-4C03-BA75-5E40DFD5A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78E9F-E6AA-41D7-B3CF-EAE76D6F5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78A1F-46D8-4E95-B429-000FAA4D35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CFE32-1935-4B01-82F4-00F3C4D8A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4DA7BB-D3B2-4BA2-9F67-A4DE4237B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71A22-EA28-49EF-A524-CC9130FBA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F22C1-E451-4540-A54B-E14FAE782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7DB09-5FAF-4782-AA5F-A516544A3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859D6-2774-439A-931C-08543B15B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4FA0F-BBA2-4329-9332-A8792A7B3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9DAE9-AD17-48F7-8F47-8EC58D7A0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F65C2-B072-4032-9B43-AA523FC92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876D1-8D9E-403A-89A7-5B970522B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20BF2-26B4-4E25-8DCC-7CD5F7A2F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2B05B-8BA0-4648-8081-D88FC0553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35C30-42F9-49A1-B4C4-6238B9752B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879620-04AB-4264-8490-DBC786013C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937D30-BF24-4E94-9DB9-281F789696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F22F81-30CF-46E3-8370-95837EF44F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089747-9FCB-4337-B5DF-5D3CF8513D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A7CAA7-6EBA-43A2-9640-4995C784EF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DB0C9F-AB30-4EDE-8966-3A63638A1E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1BD84-EA1E-4D16-9826-C7FC769B10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BD1639-3A60-4C3F-810C-4BE7CCC617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AD0062-2B93-452E-B177-FD0460EC0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10B56D-1FF3-40A0-AD06-7B1F24C4B5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DDF06A-BDD7-47D1-8D4E-B089E388DF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EA70B1-DFD5-4A56-92A5-AFFD456769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AD02EF-2EA6-4D82-887F-7859CCD27E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6A5471-164D-4132-A8B9-0619843014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C3938D-A97D-44AB-8FDE-01D568B348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72DAC4-11A8-4568-B230-36EF3FF8C0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F8CACC-D88E-4A6E-B84C-6D4DFC0D90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E5AC8-8D16-48F2-B590-E3D371E2B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CA832A-0D87-47CB-9B88-0E43B07126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8C6031-B60A-47CD-81E6-271FD70619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969AE8-5801-4618-9DE4-7633CACC2C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88E76C-4AE5-4451-A684-C03D397A24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01A4F9-46E0-4F9E-A6B0-1F6B31C67E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183802-6C8D-4A82-8475-1A87866BD7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72ED2C-ED8C-4097-86C1-ADAF65D34D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7E5C08-9032-4B01-A108-AA4E2E9699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33809D-4306-4A83-9390-1F42B962BE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563CB2-B211-4458-B883-A039B12CA1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EB160-7BEA-4723-B86B-07F0821CE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F51D10-B5B7-4B7C-B41A-C4BB697B43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DB2785-E564-432F-81A5-E09CECE94C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186305-2B20-41B1-B7E5-FB281E3AEA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2EE30A-F34C-4A44-A9E3-E1F6DCD524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12DCAA-D54C-46CD-A90B-866C716D6A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079A2F-8C79-4EE1-823D-59231A5459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81C323-7CB9-422C-A212-3C8DBB7D5B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FEA36A-EAEE-41C9-ADA5-2C1F4EE481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B046C2-DDD6-492C-BA94-3F4707B5B2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15F0C9-9AFB-4742-856F-CBD4E898F3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FA91D-EA3E-43CE-8795-BC8CEF044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88968D-B8FA-4E48-BD05-5A832C19E1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FC4DE1-B72F-415B-9EE6-41F906A53F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7AD440-AE4B-42BE-9906-F28EC8F7FB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36BEDC-CBC8-4143-BCA3-1ECD234F56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64E095-9822-41CB-A193-D6A8968A2D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BAAF95-5DBA-4906-A1DE-E4B32B0A30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630145-14B1-4EDB-AE27-30B84B7BF9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6722FA-FCF2-48C2-BF75-3D343ACFF3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FE6888-183C-4364-9D84-354E9FBD71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01CBCE-BF25-4CBA-8EE3-0ECE4DC3FA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8DF9C-D9D8-4997-B722-4E3BFCD8B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3C911D-D396-4F72-BA40-E4E24BE50C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7FF2F8-9A6A-4533-B139-1682C9EB41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33B074-B5C7-4A25-8FB8-3B11FBC11D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953EE2-5188-49DB-B78E-512E5A8BFD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0DC2C8-FE2C-4784-8C09-08B2001906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85650E-6B4F-43EE-BFB8-CC84F68019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17006B-61A5-4139-BE66-40DD8A78E2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71F5AB-51B6-4C36-BCC6-843A3B70AD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A9F223-A593-4CC3-B3A1-E35D0F4D4A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A74DDC-5458-4D18-8E40-6D78AC0844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686F2-F402-4CC0-865B-DC168787D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0457F5-FEFC-4C4E-9E68-1569D74192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4CFB8A-E69A-4102-9037-A8F4DFC9A8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1BA99A-7737-4A51-9CB3-62573E6704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8E6CD7-CD66-4418-BC35-F177A9F4F6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7A4778-8371-4AF1-9888-53A1F1C554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49705-F193-4516-9B80-AACE57FF6C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799A-6A43-45B1-81F1-EB7E2C194E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25C9-DB96-4A95-882B-BF9F266C3C36}"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24C24-2A80-404E-ADA0-1B19AD5CC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6E03-3C27-4AE2-A520-45730204AA0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D5A85-CC94-431A-8379-B6E537709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043E-0A38-483C-843B-056BCD7C082B}"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3926-0337-487C-918B-E52B297E4315}"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2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3" descr=""/>
          <p:cNvPicPr/>
          <p:nvPr/>
        </p:nvPicPr>
        <p:blipFill>
          <a:blip r:embed="rId1"/>
          <a:stretch/>
        </p:blipFill>
        <p:spPr>
          <a:xfrm>
            <a:off x="542880" y="774720"/>
            <a:ext cx="8319960" cy="1766880"/>
          </a:xfrm>
          <a:prstGeom prst="rect">
            <a:avLst/>
          </a:prstGeom>
          <a:ln w="0">
            <a:noFill/>
          </a:ln>
        </p:spPr>
      </p:pic>
      <p:pic>
        <p:nvPicPr>
          <p:cNvPr id="309" name="Subtitle 4" descr=""/>
          <p:cNvPicPr/>
          <p:nvPr/>
        </p:nvPicPr>
        <p:blipFill>
          <a:blip r:embed="rId2"/>
          <a:stretch/>
        </p:blipFill>
        <p:spPr>
          <a:xfrm>
            <a:off x="542880" y="2170080"/>
            <a:ext cx="8272440" cy="18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384120" y="-219240"/>
            <a:ext cx="8229600" cy="1810080"/>
          </a:xfrm>
          <a:prstGeom prst="rect">
            <a:avLst/>
          </a:prstGeom>
          <a:ln w="0">
            <a:noFill/>
          </a:ln>
        </p:spPr>
      </p:pic>
      <p:sp>
        <p:nvSpPr>
          <p:cNvPr id="344" name=""/>
          <p:cNvSpPr txBox="1"/>
          <p:nvPr/>
        </p:nvSpPr>
        <p:spPr>
          <a:xfrm>
            <a:off x="457200" y="1143000"/>
            <a:ext cx="3657600" cy="4572000"/>
          </a:xfrm>
          <a:prstGeom prst="rect">
            <a:avLst/>
          </a:prstGeom>
          <a:noFill/>
          <a:ln w="0">
            <a:noFill/>
          </a:ln>
        </p:spPr>
        <p:txBody>
          <a:bodyPr anchor="t">
            <a:normAutofit fontScale="90000"/>
          </a:bodyPr>
          <a:p>
            <a:pPr marL="402840" indent="-34416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s is one of the only modern topics that the Democratic and Republican agree on for the most part. They differ on only small and nearly insignificant topics.</a:t>
            </a:r>
            <a:endParaRPr b="0" lang="en-US" sz="2400" spc="-1" strike="noStrike">
              <a:solidFill>
                <a:srgbClr val="ffffff"/>
              </a:solidFill>
              <a:latin typeface="Century Gothic"/>
            </a:endParaRPr>
          </a:p>
          <a:p>
            <a:pPr marL="402840" indent="-34416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or example, Republicans prefer civil engineering than social engineering.</a:t>
            </a:r>
            <a:endParaRPr b="0" lang="en-US" sz="2400" spc="-1" strike="noStrike">
              <a:solidFill>
                <a:srgbClr val="ffffff"/>
              </a:solidFill>
              <a:latin typeface="Century Gothic"/>
            </a:endParaRPr>
          </a:p>
          <a:p>
            <a:pPr marL="402840" indent="-34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endParaRPr b="0" lang="en-US" sz="2400" spc="-1" strike="noStrike">
              <a:solidFill>
                <a:srgbClr val="ffffff"/>
              </a:solidFill>
              <a:latin typeface="Century Gothic"/>
            </a:endParaRPr>
          </a:p>
        </p:txBody>
      </p:sp>
      <p:pic>
        <p:nvPicPr>
          <p:cNvPr id="345" name="Picture 2" descr="http://connect2athens.com/cnt/files/image/republican_party_logo_redesign_by_mountainlygon-d4fkawk.png"/>
          <p:cNvPicPr/>
          <p:nvPr/>
        </p:nvPicPr>
        <p:blipFill>
          <a:blip r:embed="rId2"/>
          <a:stretch/>
        </p:blipFill>
        <p:spPr>
          <a:xfrm>
            <a:off x="4232160" y="1066680"/>
            <a:ext cx="487368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457200" y="-36360"/>
            <a:ext cx="8229600" cy="2199960"/>
          </a:xfrm>
          <a:prstGeom prst="rect">
            <a:avLst/>
          </a:prstGeom>
          <a:ln w="0">
            <a:noFill/>
          </a:ln>
        </p:spPr>
      </p:pic>
      <p:sp>
        <p:nvSpPr>
          <p:cNvPr id="347"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e Committee provides the President, Congress, and the Federal agencies involved in networking and information technology research and development with expert, independent advice on maintaining America's involvement in advanced information technologies. </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4" descr="http://www.dividedbytechnology.co.uk/images/digital.jpg"/>
          <p:cNvPicPr/>
          <p:nvPr/>
        </p:nvPicPr>
        <p:blipFill>
          <a:blip r:embed="rId1"/>
          <a:stretch/>
        </p:blipFill>
        <p:spPr>
          <a:xfrm>
            <a:off x="1219320" y="4343400"/>
            <a:ext cx="3047760" cy="2286000"/>
          </a:xfrm>
          <a:prstGeom prst="rect">
            <a:avLst/>
          </a:prstGeom>
          <a:ln w="0">
            <a:noFill/>
          </a:ln>
        </p:spPr>
      </p:pic>
      <p:pic>
        <p:nvPicPr>
          <p:cNvPr id="311" name="Picture 2" descr="http://francisanderson.files.wordpress.com/2009/06/digital-divide-2.jpg"/>
          <p:cNvPicPr/>
          <p:nvPr/>
        </p:nvPicPr>
        <p:blipFill>
          <a:blip r:embed="rId2"/>
          <a:stretch/>
        </p:blipFill>
        <p:spPr>
          <a:xfrm>
            <a:off x="4559400" y="2743200"/>
            <a:ext cx="4584600" cy="3438360"/>
          </a:xfrm>
          <a:prstGeom prst="rect">
            <a:avLst/>
          </a:prstGeom>
          <a:ln w="0">
            <a:noFill/>
          </a:ln>
        </p:spPr>
      </p:pic>
      <p:sp>
        <p:nvSpPr>
          <p:cNvPr id="312" name="Rounded Rectangle 4"/>
          <p:cNvSpPr/>
          <p:nvPr/>
        </p:nvSpPr>
        <p:spPr>
          <a:xfrm>
            <a:off x="228600" y="457200"/>
            <a:ext cx="6705720" cy="4191120"/>
          </a:xfrm>
          <a:prstGeom prst="roundRect">
            <a:avLst>
              <a:gd name="adj" fmla="val 16667"/>
            </a:avLst>
          </a:prstGeom>
          <a:solidFill>
            <a:srgbClr val="ff388c">
              <a:alpha val="4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5"/>
          <p:cNvSpPr/>
          <p:nvPr/>
        </p:nvSpPr>
        <p:spPr>
          <a:xfrm>
            <a:off x="685800" y="554040"/>
            <a:ext cx="5715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Digital divide is defined as the gap between individuals and communities that have and don’t have access to information technologies of postmodern societ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54% of the U.S. population, or 143 million people, are actively using the Interne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Gap has been expanding, due to relevant factors such as racial, ethnic, social, and economic divid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In the Information Age, lack of access to information means disconnection from the economy and the democratic debat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2" descr="http://www.sitepointstatic.com/graphics/digitaldivide-map.jpg"/>
          <p:cNvPicPr/>
          <p:nvPr/>
        </p:nvPicPr>
        <p:blipFill>
          <a:blip r:embed="rId1"/>
          <a:stretch/>
        </p:blipFill>
        <p:spPr>
          <a:xfrm>
            <a:off x="1447920" y="2286000"/>
            <a:ext cx="6095880" cy="4572000"/>
          </a:xfrm>
          <a:prstGeom prst="rect">
            <a:avLst/>
          </a:prstGeom>
          <a:ln cap="sq" w="38160">
            <a:solidFill>
              <a:srgbClr val="000000"/>
            </a:solidFill>
            <a:miter/>
          </a:ln>
          <a:effectLst>
            <a:outerShdw dist="38183" dir="2700000" blurRad="0" rotWithShape="0">
              <a:srgbClr val="000000">
                <a:alpha val="43000"/>
              </a:srgbClr>
            </a:outerShdw>
          </a:effectLst>
        </p:spPr>
      </p:pic>
      <p:sp>
        <p:nvSpPr>
          <p:cNvPr id="315" name="Rectangle 4"/>
          <p:cNvSpPr/>
          <p:nvPr/>
        </p:nvSpPr>
        <p:spPr>
          <a:xfrm>
            <a:off x="152280" y="152280"/>
            <a:ext cx="38862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a:t>
            </a:r>
            <a:r>
              <a:rPr b="0" lang="en-US" sz="1400" spc="-1" strike="noStrike">
                <a:solidFill>
                  <a:srgbClr val="ffffff"/>
                </a:solidFill>
                <a:latin typeface="Calibri"/>
                <a:ea typeface="Arial"/>
              </a:rPr>
              <a:t>In the twenty-first century, the capacity to communicate will almost certainly be a key human right. Eliminating the distinction between the information-rich and information-poor is also critical to eliminating economic and other inequalities between North and South, and to improve the life of all humanity.” -Nelson Mandela, TELECOM 95, October 3, 1995 (Wilson, 2004, 1)</a:t>
            </a:r>
            <a:endParaRPr b="0" lang="en-US" sz="1400" spc="-1" strike="noStrike">
              <a:solidFill>
                <a:srgbClr val="ffffff"/>
              </a:solidFill>
              <a:latin typeface="Arial"/>
            </a:endParaRPr>
          </a:p>
        </p:txBody>
      </p:sp>
      <p:sp>
        <p:nvSpPr>
          <p:cNvPr id="316" name="Rounded Rectangle 6"/>
          <p:cNvSpPr/>
          <p:nvPr/>
        </p:nvSpPr>
        <p:spPr>
          <a:xfrm>
            <a:off x="76320" y="76320"/>
            <a:ext cx="3962160" cy="1981080"/>
          </a:xfrm>
          <a:prstGeom prst="roundRect">
            <a:avLst>
              <a:gd name="adj" fmla="val 16667"/>
            </a:avLst>
          </a:prstGeom>
          <a:solidFill>
            <a:srgbClr val="ff388c">
              <a:alpha val="23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TextBox 8"/>
          <p:cNvSpPr/>
          <p:nvPr/>
        </p:nvSpPr>
        <p:spPr>
          <a:xfrm>
            <a:off x="4343400" y="45720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While digital divide refers to the difference between social classes, global digital divide refers to a geographical division in terms of technological acce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8"/>
          <p:cNvSpPr/>
          <p:nvPr/>
        </p:nvSpPr>
        <p:spPr>
          <a:xfrm>
            <a:off x="1217160" y="1981080"/>
            <a:ext cx="665280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 </a:t>
            </a:r>
            <a:r>
              <a:rPr b="0" lang="en-US" sz="1800" spc="-1" strike="noStrike">
                <a:solidFill>
                  <a:srgbClr val="ffffff"/>
                </a:solidFill>
                <a:latin typeface="Calibri"/>
                <a:ea typeface="Arial"/>
              </a:rPr>
              <a:t>The term “digital divide” originally represented the gap in compute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ownership between different groups of peop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 </a:t>
            </a:r>
            <a:r>
              <a:rPr b="0" lang="en-US" sz="1800" spc="-1" strike="noStrike">
                <a:solidFill>
                  <a:srgbClr val="ffffff"/>
                </a:solidFill>
                <a:latin typeface="Calibri"/>
                <a:ea typeface="Arial"/>
              </a:rPr>
              <a:t>Was being used regularly by mid-1990s</a:t>
            </a:r>
            <a:endParaRPr b="0" lang="en-US" sz="1800" spc="-1" strike="noStrike">
              <a:solidFill>
                <a:srgbClr val="ffffff"/>
              </a:solidFill>
              <a:latin typeface="Arial"/>
            </a:endParaRPr>
          </a:p>
          <a:p>
            <a:pPr>
              <a:lnSpc>
                <a:spcPct val="100000"/>
              </a:lnSpc>
              <a:buClr>
                <a:srgbClr val="ffff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 </a:t>
            </a:r>
            <a:r>
              <a:rPr b="0" lang="en-US" sz="1800" spc="-1" strike="noStrike">
                <a:solidFill>
                  <a:srgbClr val="ffffff"/>
                </a:solidFill>
                <a:latin typeface="Calibri"/>
                <a:ea typeface="Arial"/>
              </a:rPr>
              <a:t>Between 1997-2005, middle- and higher-income group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showed growing equalit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 </a:t>
            </a:r>
            <a:r>
              <a:rPr b="0" lang="en-US" sz="1800" spc="-1" strike="noStrike">
                <a:solidFill>
                  <a:srgbClr val="ffffff"/>
                </a:solidFill>
                <a:latin typeface="Calibri"/>
                <a:ea typeface="Arial"/>
              </a:rPr>
              <a:t>Lowest income groups continue to decrease level of equalit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to higher income groups</a:t>
            </a:r>
            <a:endParaRPr b="0" lang="en-US" sz="1800" spc="-1" strike="noStrike">
              <a:solidFill>
                <a:srgbClr val="ffffff"/>
              </a:solidFill>
              <a:latin typeface="Arial"/>
            </a:endParaRPr>
          </a:p>
        </p:txBody>
      </p:sp>
      <p:pic>
        <p:nvPicPr>
          <p:cNvPr id="319" name="Title 3" descr=""/>
          <p:cNvPicPr/>
          <p:nvPr/>
        </p:nvPicPr>
        <p:blipFill>
          <a:blip r:embed="rId1"/>
          <a:stretch/>
        </p:blipFill>
        <p:spPr>
          <a:xfrm>
            <a:off x="457200" y="274680"/>
            <a:ext cx="8229600" cy="1236600"/>
          </a:xfrm>
          <a:prstGeom prst="rect">
            <a:avLst/>
          </a:prstGeom>
          <a:ln w="0">
            <a:noFill/>
          </a:ln>
        </p:spPr>
      </p:pic>
      <p:sp>
        <p:nvSpPr>
          <p:cNvPr id="320" name="Rounded Rectangle 5"/>
          <p:cNvSpPr/>
          <p:nvPr/>
        </p:nvSpPr>
        <p:spPr>
          <a:xfrm>
            <a:off x="1523880" y="457200"/>
            <a:ext cx="6096240" cy="990720"/>
          </a:xfrm>
          <a:prstGeom prst="roundRect">
            <a:avLst>
              <a:gd name="adj" fmla="val 16667"/>
            </a:avLst>
          </a:prstGeom>
          <a:solidFill>
            <a:srgbClr val="ff388c">
              <a:alpha val="4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457200" y="122400"/>
            <a:ext cx="8229600" cy="1809720"/>
          </a:xfrm>
          <a:prstGeom prst="rect">
            <a:avLst/>
          </a:prstGeom>
          <a:ln w="0">
            <a:noFill/>
          </a:ln>
        </p:spPr>
      </p:pic>
      <p:sp>
        <p:nvSpPr>
          <p:cNvPr id="322" name=""/>
          <p:cNvSpPr txBox="1"/>
          <p:nvPr/>
        </p:nvSpPr>
        <p:spPr>
          <a:xfrm>
            <a:off x="762120" y="1523520"/>
            <a:ext cx="6705360" cy="4907160"/>
          </a:xfrm>
          <a:prstGeom prst="rect">
            <a:avLst/>
          </a:prstGeom>
          <a:noFill/>
          <a:ln w="0">
            <a:noFill/>
          </a:ln>
        </p:spPr>
        <p:txBody>
          <a:bodyPr anchor="t">
            <a:normAutofit/>
          </a:bodyPr>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istribution of inexpensive computers and internet technology to developing nations</a:t>
            </a:r>
            <a:endParaRPr b="0" lang="en-US" sz="2000" spc="-1" strike="noStrike">
              <a:solidFill>
                <a:srgbClr val="ffffff"/>
              </a:solidFill>
              <a:latin typeface="Century Gothic"/>
            </a:endParaRPr>
          </a:p>
          <a:p>
            <a:pPr lvl="1" marL="822240" indent="-285840">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One Laptop Per Child (OLPC), 50x15 (AMD), Geekcore, Inveneo</a:t>
            </a:r>
            <a:endParaRPr b="0" lang="en-US" sz="1800" spc="-1" strike="noStrike">
              <a:solidFill>
                <a:srgbClr val="ffffff"/>
              </a:solidFill>
              <a:latin typeface="Century Gothic"/>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Programs teach technology skills to underprivileged inner-city families.</a:t>
            </a:r>
            <a:endParaRPr b="0" lang="en-US" sz="2000" spc="-1" strike="noStrike">
              <a:solidFill>
                <a:srgbClr val="ffffff"/>
              </a:solidFill>
              <a:latin typeface="Century Gothic"/>
            </a:endParaRPr>
          </a:p>
          <a:p>
            <a:pPr lvl="1" marL="822240" indent="-285840">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Boston Digital Bridge Foundation</a:t>
            </a:r>
            <a:endParaRPr b="0" lang="en-US" sz="1800" spc="-1" strike="noStrike">
              <a:solidFill>
                <a:srgbClr val="ffffff"/>
              </a:solidFill>
              <a:latin typeface="Century Gothic"/>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Mobile phones used to connect to internet</a:t>
            </a:r>
            <a:endParaRPr b="0" lang="en-US" sz="2000" spc="-1" strike="noStrike">
              <a:solidFill>
                <a:srgbClr val="ffffff"/>
              </a:solidFill>
              <a:latin typeface="Century Gothic"/>
            </a:endParaRPr>
          </a:p>
          <a:p>
            <a:pPr lvl="1" marL="822240" indent="-285840">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Nearly half of African-Americans and Hispanics have used mobile phones to connect to internet, compared to 28 percent of white Americans</a:t>
            </a:r>
            <a:endParaRPr b="0" lang="en-US" sz="1800" spc="-1" strike="noStrike">
              <a:solidFill>
                <a:srgbClr val="ffffff"/>
              </a:solidFill>
              <a:latin typeface="Century Gothic"/>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ocial networking sites encourage use among all groups.</a:t>
            </a:r>
            <a:endParaRPr b="0" lang="en-US" sz="2000" spc="-1" strike="noStrike">
              <a:solidFill>
                <a:srgbClr val="ffffff"/>
              </a:solidFill>
              <a:latin typeface="Century Gothic"/>
            </a:endParaRPr>
          </a:p>
          <a:p>
            <a:pPr marL="4478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pic>
        <p:nvPicPr>
          <p:cNvPr id="323" name="Picture 4" descr=""/>
          <p:cNvPicPr/>
          <p:nvPr/>
        </p:nvPicPr>
        <p:blipFill>
          <a:blip r:embed="rId2"/>
          <a:stretch/>
        </p:blipFill>
        <p:spPr>
          <a:xfrm>
            <a:off x="7543800" y="1752480"/>
            <a:ext cx="1270080" cy="952560"/>
          </a:xfrm>
          <a:prstGeom prst="rect">
            <a:avLst/>
          </a:prstGeom>
          <a:ln w="0">
            <a:noFill/>
          </a:ln>
        </p:spPr>
      </p:pic>
      <p:sp>
        <p:nvSpPr>
          <p:cNvPr id="324" name="TextBox 7"/>
          <p:cNvSpPr/>
          <p:nvPr/>
        </p:nvSpPr>
        <p:spPr>
          <a:xfrm>
            <a:off x="7696080" y="274320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WokFi</a:t>
            </a:r>
            <a:endParaRPr b="0" lang="en-US" sz="1800" spc="-1" strike="noStrike">
              <a:solidFill>
                <a:srgbClr val="ffffff"/>
              </a:solidFill>
              <a:latin typeface="Arial"/>
            </a:endParaRPr>
          </a:p>
        </p:txBody>
      </p:sp>
      <p:pic>
        <p:nvPicPr>
          <p:cNvPr id="325" name="Picture 2" descr=""/>
          <p:cNvPicPr/>
          <p:nvPr/>
        </p:nvPicPr>
        <p:blipFill>
          <a:blip r:embed="rId3"/>
          <a:srcRect l="0" t="0" r="64494" b="0"/>
          <a:stretch/>
        </p:blipFill>
        <p:spPr>
          <a:xfrm>
            <a:off x="7462800" y="3429000"/>
            <a:ext cx="1681200" cy="847800"/>
          </a:xfrm>
          <a:prstGeom prst="rect">
            <a:avLst/>
          </a:prstGeom>
          <a:ln w="0">
            <a:noFill/>
          </a:ln>
        </p:spPr>
      </p:pic>
      <p:pic>
        <p:nvPicPr>
          <p:cNvPr id="326" name="Picture 3" descr=""/>
          <p:cNvPicPr/>
          <p:nvPr/>
        </p:nvPicPr>
        <p:blipFill>
          <a:blip r:embed="rId4"/>
          <a:srcRect l="22585" t="0" r="19354" b="0"/>
          <a:stretch/>
        </p:blipFill>
        <p:spPr>
          <a:xfrm>
            <a:off x="0" y="4038480"/>
            <a:ext cx="641520" cy="1105200"/>
          </a:xfrm>
          <a:prstGeom prst="rect">
            <a:avLst/>
          </a:prstGeom>
          <a:ln w="0">
            <a:noFill/>
          </a:ln>
        </p:spPr>
      </p:pic>
      <p:pic>
        <p:nvPicPr>
          <p:cNvPr id="327" name="Picture 4" descr=""/>
          <p:cNvPicPr/>
          <p:nvPr/>
        </p:nvPicPr>
        <p:blipFill>
          <a:blip r:embed="rId5"/>
          <a:stretch/>
        </p:blipFill>
        <p:spPr>
          <a:xfrm>
            <a:off x="2438280" y="5943600"/>
            <a:ext cx="1428840" cy="533520"/>
          </a:xfrm>
          <a:prstGeom prst="rect">
            <a:avLst/>
          </a:prstGeom>
          <a:ln w="0">
            <a:noFill/>
          </a:ln>
        </p:spPr>
      </p:pic>
      <p:pic>
        <p:nvPicPr>
          <p:cNvPr id="328" name="Picture 5" descr=""/>
          <p:cNvPicPr/>
          <p:nvPr/>
        </p:nvPicPr>
        <p:blipFill>
          <a:blip r:embed="rId6"/>
          <a:stretch/>
        </p:blipFill>
        <p:spPr>
          <a:xfrm>
            <a:off x="5029200" y="5943600"/>
            <a:ext cx="1362240" cy="504720"/>
          </a:xfrm>
          <a:prstGeom prst="rect">
            <a:avLst/>
          </a:prstGeom>
          <a:ln w="0">
            <a:noFill/>
          </a:ln>
        </p:spPr>
      </p:pic>
      <p:sp>
        <p:nvSpPr>
          <p:cNvPr id="329" name="Rounded Rectangle 12"/>
          <p:cNvSpPr/>
          <p:nvPr/>
        </p:nvSpPr>
        <p:spPr>
          <a:xfrm>
            <a:off x="650880" y="1276200"/>
            <a:ext cx="6705720" cy="4496040"/>
          </a:xfrm>
          <a:prstGeom prst="roundRect">
            <a:avLst>
              <a:gd name="adj" fmla="val 16667"/>
            </a:avLst>
          </a:prstGeom>
          <a:solidFill>
            <a:srgbClr val="ff388c">
              <a:alpha val="4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1371600" y="-225360"/>
            <a:ext cx="6523200" cy="1719360"/>
          </a:xfrm>
          <a:prstGeom prst="rect">
            <a:avLst/>
          </a:prstGeom>
          <a:ln w="0">
            <a:noFill/>
          </a:ln>
        </p:spPr>
      </p:pic>
      <p:pic>
        <p:nvPicPr>
          <p:cNvPr id="331" name="Subtitle 2" descr=""/>
          <p:cNvPicPr/>
          <p:nvPr/>
        </p:nvPicPr>
        <p:blipFill>
          <a:blip r:embed="rId2"/>
          <a:stretch/>
        </p:blipFill>
        <p:spPr>
          <a:xfrm>
            <a:off x="1006560" y="1920960"/>
            <a:ext cx="6821280" cy="3120840"/>
          </a:xfrm>
          <a:prstGeom prst="rect">
            <a:avLst/>
          </a:prstGeom>
          <a:ln w="0">
            <a:noFill/>
          </a:ln>
        </p:spPr>
      </p:pic>
      <p:sp>
        <p:nvSpPr>
          <p:cNvPr id="332" name="Rounded Rectangle 3"/>
          <p:cNvSpPr/>
          <p:nvPr/>
        </p:nvSpPr>
        <p:spPr>
          <a:xfrm>
            <a:off x="990720" y="304920"/>
            <a:ext cx="6705360" cy="1143000"/>
          </a:xfrm>
          <a:prstGeom prst="roundRect">
            <a:avLst>
              <a:gd name="adj" fmla="val 16667"/>
            </a:avLst>
          </a:prstGeom>
          <a:solidFill>
            <a:srgbClr val="ff388c">
              <a:alpha val="4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3" descr=""/>
          <p:cNvPicPr/>
          <p:nvPr/>
        </p:nvPicPr>
        <p:blipFill>
          <a:blip r:embed="rId1"/>
          <a:stretch/>
        </p:blipFill>
        <p:spPr>
          <a:xfrm>
            <a:off x="5181480" y="304920"/>
            <a:ext cx="3810240" cy="3200400"/>
          </a:xfrm>
          <a:prstGeom prst="rect">
            <a:avLst/>
          </a:prstGeom>
          <a:ln w="0">
            <a:noFill/>
          </a:ln>
        </p:spPr>
      </p:pic>
      <p:sp>
        <p:nvSpPr>
          <p:cNvPr id="334" name="TextBox 3"/>
          <p:cNvSpPr/>
          <p:nvPr/>
        </p:nvSpPr>
        <p:spPr>
          <a:xfrm>
            <a:off x="304920" y="457200"/>
            <a:ext cx="48006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Global Digital Divide is a stumbling block inhibiting man’s technological progress.</a:t>
            </a:r>
            <a:endParaRPr b="0" lang="en-US" sz="24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internet allows for knowledge to be shared widely.</a:t>
            </a:r>
            <a:endParaRPr b="0" lang="en-US" sz="24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 wide variety of talents are available for collaboration.</a:t>
            </a:r>
            <a:endParaRPr b="0" lang="en-US" sz="24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Internet users currently only constitute fifteen to twenty percent of the worlds population.</a:t>
            </a:r>
            <a:endParaRPr b="0" lang="en-US" sz="24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re is still a great deal of potential to be had by connecting the other eighty percent of the world.</a:t>
            </a:r>
            <a:endParaRPr b="0" lang="en-US" sz="24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Programs such as the OLPC initiative and Inveneo will help to solve this, to some degree.</a:t>
            </a:r>
            <a:endParaRPr b="0" lang="en-US" sz="2400" spc="-1" strike="noStrike">
              <a:solidFill>
                <a:srgbClr val="ffffff"/>
              </a:solidFill>
              <a:latin typeface="Arial"/>
            </a:endParaRPr>
          </a:p>
        </p:txBody>
      </p:sp>
      <p:pic>
        <p:nvPicPr>
          <p:cNvPr id="335" name="Picture 2" descr=""/>
          <p:cNvPicPr/>
          <p:nvPr/>
        </p:nvPicPr>
        <p:blipFill>
          <a:blip r:embed="rId2"/>
          <a:stretch/>
        </p:blipFill>
        <p:spPr>
          <a:xfrm>
            <a:off x="4952880" y="3530520"/>
            <a:ext cx="4067280" cy="3048120"/>
          </a:xfrm>
          <a:prstGeom prst="rect">
            <a:avLst/>
          </a:prstGeom>
          <a:ln w="0">
            <a:noFill/>
          </a:ln>
        </p:spPr>
      </p:pic>
      <p:sp>
        <p:nvSpPr>
          <p:cNvPr id="336" name="Rounded Rectangle 4"/>
          <p:cNvSpPr/>
          <p:nvPr/>
        </p:nvSpPr>
        <p:spPr>
          <a:xfrm>
            <a:off x="152280" y="228600"/>
            <a:ext cx="4953240" cy="6324480"/>
          </a:xfrm>
          <a:custGeom>
            <a:avLst/>
            <a:gdLst>
              <a:gd name="textAreaLeft" fmla="*/ 241560 w 4953240"/>
              <a:gd name="textAreaRight" fmla="*/ 4711680 w 4953240"/>
              <a:gd name="textAreaTop" fmla="*/ 241560 h 6324480"/>
              <a:gd name="textAreaBottom" fmla="*/ 6082920 h 6324480"/>
            </a:gdLst>
            <a:ahLst/>
            <a:rect l="textAreaLeft" t="textAreaTop" r="textAreaRight" b="textAreaBottom"/>
            <a:pathLst>
              <a:path w="21600" h="27579">
                <a:moveTo>
                  <a:pt x="3600" y="0"/>
                </a:moveTo>
                <a:arcTo wR="3600" hR="3600" stAng="16200000" swAng="-5400000"/>
                <a:lnTo>
                  <a:pt x="0" y="23979"/>
                </a:lnTo>
                <a:arcTo wR="3600" hR="3600" stAng="10800000" swAng="-5400000"/>
                <a:lnTo>
                  <a:pt x="18000" y="27579"/>
                </a:lnTo>
                <a:arcTo wR="3600" hR="3600" stAng="5400000" swAng="-5400000"/>
                <a:lnTo>
                  <a:pt x="21600" y="3600"/>
                </a:lnTo>
                <a:arcTo wR="3600" hR="3600" stAng="0" swAng="-5400000"/>
                <a:close/>
              </a:path>
            </a:pathLst>
          </a:custGeom>
          <a:solidFill>
            <a:srgbClr val="ff388c">
              <a:alpha val="4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7200" y="122400"/>
            <a:ext cx="8229600" cy="1809720"/>
          </a:xfrm>
          <a:prstGeom prst="rect">
            <a:avLst/>
          </a:prstGeom>
          <a:ln w="0">
            <a:noFill/>
          </a:ln>
        </p:spPr>
      </p:pic>
      <p:sp>
        <p:nvSpPr>
          <p:cNvPr id="338" name=""/>
          <p:cNvSpPr txBox="1"/>
          <p:nvPr/>
        </p:nvSpPr>
        <p:spPr>
          <a:xfrm>
            <a:off x="457200" y="1523880"/>
            <a:ext cx="8305920" cy="457200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MW4D-Mobile Web for Social Development</a:t>
            </a:r>
            <a:endParaRPr b="0" lang="en-US" sz="3000" spc="-1" strike="noStrike">
              <a:solidFill>
                <a:srgbClr val="ffffff"/>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2400" spc="-1" strike="noStrike">
                <a:solidFill>
                  <a:srgbClr val="000000"/>
                </a:solidFill>
                <a:latin typeface="Century Gothic"/>
              </a:rPr>
              <a:t>The mission of this interest group is to explore the potential of Web technologies on Mobile phones as a solution to bridge the Digital Divide and provide Information and Communication Technology (ICT).</a:t>
            </a:r>
            <a:endParaRPr b="0" lang="en-US" sz="2400" spc="-1" strike="noStrike">
              <a:solidFill>
                <a:srgbClr val="ffffff"/>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pic>
        <p:nvPicPr>
          <p:cNvPr id="339" name="Picture 2" descr="http://www.w3.org/2009/05/Dakar-MW4D-mcf/DWF-schema.png"/>
          <p:cNvPicPr/>
          <p:nvPr/>
        </p:nvPicPr>
        <p:blipFill>
          <a:blip r:embed="rId2"/>
          <a:stretch/>
        </p:blipFill>
        <p:spPr>
          <a:xfrm>
            <a:off x="1523880" y="4572000"/>
            <a:ext cx="565164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536400" y="-291960"/>
            <a:ext cx="8229600" cy="1809720"/>
          </a:xfrm>
          <a:prstGeom prst="rect">
            <a:avLst/>
          </a:prstGeom>
          <a:ln w="0">
            <a:noFill/>
          </a:ln>
        </p:spPr>
      </p:pic>
      <p:sp>
        <p:nvSpPr>
          <p:cNvPr id="341" name=""/>
          <p:cNvSpPr txBox="1"/>
          <p:nvPr/>
        </p:nvSpPr>
        <p:spPr>
          <a:xfrm>
            <a:off x="533160" y="1066680"/>
            <a:ext cx="4190760" cy="4572000"/>
          </a:xfrm>
          <a:prstGeom prst="rect">
            <a:avLst/>
          </a:prstGeom>
          <a:noFill/>
          <a:ln w="0">
            <a:noFill/>
          </a:ln>
        </p:spPr>
        <p:txBody>
          <a:bodyPr anchor="t">
            <a:normAutofit fontScale="91000"/>
          </a:bodyPr>
          <a:p>
            <a:pPr marL="407520" indent="-34812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Democratic party wants to stay as one of the leaders of technology. They want to increase our math and science test scores in the classroom and increase and advance the research in labs. They think the topic is a very important issue that Americans need to keep on pushing forward in to keep up with global competition.</a:t>
            </a:r>
            <a:endParaRPr b="0" lang="en-US" sz="2400" spc="-1" strike="noStrike">
              <a:solidFill>
                <a:srgbClr val="ffffff"/>
              </a:solidFill>
              <a:latin typeface="Century Gothic"/>
            </a:endParaRPr>
          </a:p>
        </p:txBody>
      </p:sp>
      <p:pic>
        <p:nvPicPr>
          <p:cNvPr id="342" name="Picture 2" descr="http://images.sodahead.com/polls/003983359/586908415_Democratic_donkey_xlarge.jpeg"/>
          <p:cNvPicPr/>
          <p:nvPr/>
        </p:nvPicPr>
        <p:blipFill>
          <a:blip r:embed="rId2"/>
          <a:stretch/>
        </p:blipFill>
        <p:spPr>
          <a:xfrm>
            <a:off x="5334120" y="838080"/>
            <a:ext cx="3333600" cy="563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19:14:06Z</dcterms:created>
  <dc:creator>Neil</dc:creator>
  <dc:description/>
  <dc:language>en-US</dc:language>
  <cp:lastModifiedBy>User</cp:lastModifiedBy>
  <dcterms:modified xsi:type="dcterms:W3CDTF">2014-01-15T00:24:15Z</dcterms:modified>
  <cp:revision>28</cp:revision>
  <dc:subject/>
  <dc:title>Slide 1</dc:title>
</cp:coreProperties>
</file>